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E88B-E170-42FC-ABFA-1946B4358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D1BE-6621-46D9-A302-6748D8DFA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224A-CF5A-4094-AE9B-50B861B9B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8D27-78D3-4D6E-883D-7575C308B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A4D4-36E4-419E-9A5A-80579CD80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1512-4313-4C39-8F13-36C0F3F3F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qualitie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that underpin a leader’s ability to improve teaching and learning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naakitanga – leading with moral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ono – having self-bel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ko- being a lear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whinatanga – guiding and sup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E9D4-C772-4455-8420-E9EAB2D8C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eracy leaders fill in the questionnaire. What are the challenges for each of them? Construct learning intentions from these challe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F883-D4E2-4DAC-B67D-4C6EB9EDD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handout on accessing NZQA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Maths example and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C49A-3D67-4DCD-9FA0-506ECE9C1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42D9-C093-434A-B53C-AE8ADF295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E5C2-7345-442C-AC91-F4676B310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02CB-E3E5-4A14-98E6-D805E9561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4833-7A4C-4799-83A1-E5F8C5C0C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31DA-552C-4579-BA24-6016E25D8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D26A-AE49-4E63-A41E-4BEFB7964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A1E8-FB1F-4B1A-B9BE-F9023EB42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A9C7-12E8-4C44-ACEB-40E65BB36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3B74-28E6-49DB-B02B-857B7EDF3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A28A-E803-47CF-A1D6-A27192891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C9A6-777D-4BB7-9118-B153DBBAB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4E8C-6C3C-4A57-9B6C-658A501B5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logos-joint-bw-lowres.jpg"/>
          <p:cNvPicPr/>
          <p:nvPr/>
        </p:nvPicPr>
        <p:blipFill>
          <a:blip r:embed="rId3"/>
          <a:stretch/>
        </p:blipFill>
        <p:spPr>
          <a:xfrm>
            <a:off x="5638680" y="228600"/>
            <a:ext cx="287676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FOED Logo"/>
          <p:cNvPicPr/>
          <p:nvPr/>
        </p:nvPicPr>
        <p:blipFill>
          <a:blip r:embed="rId4"/>
          <a:stretch/>
        </p:blipFill>
        <p:spPr>
          <a:xfrm>
            <a:off x="7010280" y="5943600"/>
            <a:ext cx="1859040" cy="604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role of the literacy leader in subject specific literac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ngare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 November 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age 3: Subject specific literac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subjects have different ways of presenting knowledge, ideas, values and different ways of reading tex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Maths words such as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,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y be impor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History the writer and publication date of a text are impor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advantages of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can focus on specific literacy needs of their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D can be tailored for each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can measure improvement in student achievement through their subje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understand that the literacy demands are different in each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problems with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leaders have a different role in facilitating subject specific lite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need to have an understanding of both the content and literacy requirements of their subje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may be resistant to developing subject specific literacy (proficient readers may need to develop new skil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lace of new texts needs to be consid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the SSA contract says about literac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tract focuses on developing teacher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iteracy and language knowledge and skills to attend to the language demand in each learning 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ject specialists have a collective responsibility to develop (student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literacy and language knowledge, skills and competencies within and across learning areas (focus areas 11-1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rt 2: Literacy leaders as middle leader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460520" y="2057400"/>
            <a:ext cx="62229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 leader as a middle leader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your area of greatest challen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versations around dat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packing asTTle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packing NCEA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rt 3: Engaging with subject specific literac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Sci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rt 4: How to put it all into practic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get into dep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develop support across the school (literacy committee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develop sustainable chang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y is literacy so important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literacy costs NZ an estimated $3 billion a ye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"Often, the end result of low literacy levels is trapping people in a cycle of poverty, poor health, limited employment opportunities, reduced income potential and low productivity in businesses.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ndrew Ka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earning intention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Literacy Leaders will ha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Developed their awareness of the literacy and language demands inherent in each learning area at NCEA levels 1-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Reviewed their capacity to use data effectively to determine students’ literacy and language strengths and needs at senior lev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Focused their attention on the literacy and language needs of priority learners: Māori, Pasifika, and learners with special educational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Reviewed and developed their ability to support middle leaders to respond effectively to the identified literacy and language needs of stu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Visit our website for the resource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leadingliteracynz.wikispaces.com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rt 1: An overview of secondary literacy in NZ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age 1: Literacy across the curriculum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mphasis on using literacy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strategies across the curriculum (e.g learning through languag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es such as reciprocal teaching, KWL, vocab jumble became pop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seen as skills-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advantages of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teachers were positioned as teachers of lite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became a focus area in secondary sch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eachers incorporated literacy strategies in ways that improved student achie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problems with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es were difficult to fit into some subject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eachers did not use the strategies consist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strategies were taught as isolated skil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age 2: SLP 2009-11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ocus on upskilling the literacy leader and creating learning communities of literacy lea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leader worked with a focus group of teachers, often around the literacy needs of a specific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idence-based, often still an emphasis on strategies but subject specific literacy also consid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advantages of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was funding for the literacy leader role and for P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ole of the literacy leader was emphasi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leaders across schools formed a national and regional learning 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required an examination of data to measure su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around a specific class often gained more engagement by teac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problems with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ended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ckle down effect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metimes did not eventu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ffectiveness was strongly dependent on the literacy l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eachers did not use the strategies consist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strategies were taught as isolated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a used to measure success was focussed on one area (Rea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47:52Z</dcterms:created>
  <dc:creator>Studio 4</dc:creator>
  <dc:description/>
  <dc:language>en-US</dc:language>
  <cp:lastModifiedBy>Siliva Gaugatao</cp:lastModifiedBy>
  <cp:lastPrinted>2012-11-20T01:26:44Z</cp:lastPrinted>
  <dcterms:modified xsi:type="dcterms:W3CDTF">2014-07-03T21:38:57Z</dcterms:modified>
  <cp:revision>38</cp:revision>
  <dc:subject/>
  <dc:title>PowerPoint Presentation</dc:title>
</cp:coreProperties>
</file>